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D3B-0081-471D-B5EB-EA86393C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95D-B494-40AF-A809-0320B36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81D-A968-4B95-8546-D7DA6A16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EA9-CAB2-4D35-825B-72A8218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052-382F-4EA1-9777-53B26BA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959-B7EA-4D72-8DFD-E005BDB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C2B-7F88-4D00-AC82-27C8862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509-5B0A-4B2F-A708-41436337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854-CECC-435F-8B33-B75F905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ECA-DC83-4C5A-A31C-9D1AB7E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56E-4A6A-4E44-9A49-80C95E10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D02-A997-4A74-94F1-913D65A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7525-DE4E-4239-ABF4-D08CBA38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efforts made at the Institute of Space Sciences in Bucharest to open the VHE gamma ray window in Rom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build a ground based Cherenkov telescope for the study of the VHE gamma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already have two ongoing projects financed by national programs, that are thought to open the way for building this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udies concerning the installation of a High Energy Gamma Ray Cherenkov telescope in Romania – GAMM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roject No.  81-0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/ Sept. 18, 2007,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NCDI2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, 21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web site:  venus.nipne.ro/projects/gamm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rtners at the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of the Space Sciences (I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(the leading Institu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roject Manager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r. Aurelian Andrei RADU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, andreiradu@venus.nipne.ro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Meteorological Administration (METE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echnical University of Civil Engineering Bucharest (TUCE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5257800"/>
            <a:ext cx="380880" cy="31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58200" y="5562720"/>
            <a:ext cx="347760" cy="36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68580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neral Objectives (GAMMATEL –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Gain the necessary knowledge to build a first Gamma Ray Observatory in Romania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oose a site which complies with specific requirements such as: high enough altitude, large horizon, meteorological conditions to allow observ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Realistic estimation of the necessary technical effort for building the observatory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 conception plan for the dome, the ice-melting and heating system, the evaluation of the necessary electrical power, the evaluation of the operations for the local infrastructure (roads, electrical network, water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dentification of a group of compani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designing, building, etc.) </a:t>
            </a: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with whom to create 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consortium for building the observato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A preliminary analysis of the environmental impact as well as a of the impact on the local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Strengthen the connection with the ApPEC and ASPERA membe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in order to submit a proposal for a large European gamma ray astronomy infrastructure, in the frame of FP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Optomecatronic measuring system for the light of night sky background that affect the ground based experiments to detect galactic and extragalactic gamma rays - OPTOGA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roject No.  82-09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. 01, 2008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NCDI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 OPTOGATRON project has just been fin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rtners at the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of the Space Sciences (I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(the leading Institu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roject Manager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r. Aurelian Andrei RADU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, andreiradu@venus.nipne.ro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Meteorological Administration (MET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Institute for Research &amp; Development in Fi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chanics (INCDM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Romanian Space Agency (ROS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6019920"/>
            <a:ext cx="576000" cy="5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67480" y="4114800"/>
            <a:ext cx="997200" cy="45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81680" y="4952880"/>
            <a:ext cx="4572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general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o design, build and test a complex system for the measurement of the LON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i="1" lang="en-US" sz="2600" spc="-1" strike="noStrike" u="sng">
                <a:solidFill>
                  <a:srgbClr val="000066"/>
                </a:solidFill>
                <a:uFillTx/>
                <a:latin typeface="Times New Roman"/>
              </a:rPr>
              <a:t>light of night sky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ckground that affects the ground based Cherenkov telesc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system may be used in the selection procedure of an optimum location for the operation of a Cherenkov telescope and may represent a significant instrumental contribution for Romania and the European CT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37:44Z</dcterms:created>
  <dc:creator>AAR</dc:creator>
  <dc:description/>
  <dc:language>en-US</dc:language>
  <cp:lastModifiedBy>AAR</cp:lastModifiedBy>
  <dcterms:modified xsi:type="dcterms:W3CDTF">2009-01-01T23:00:20Z</dcterms:modified>
  <cp:revision>49</cp:revision>
  <dc:subject/>
  <dc:title>Slide 1</dc:title>
</cp:coreProperties>
</file>